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8BB-7DE4-4517-B334-C33D211C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C29-B65D-41D5-9F16-77FC145F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C4B-3D30-4DE5-914D-137ED7BF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843-520E-4FD0-92DD-5185DF59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C6C-3390-4263-B20B-B900811A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656-E55F-45D1-BE3F-F37C9B2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9EE-38EC-4293-B502-3C39C78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496-75BC-446E-8608-A2660986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41D-C692-44FA-B44E-21289166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566-1043-4FE8-836D-6E9B9EB2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D30-A6E7-4FDB-8C5B-73BDCB3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C87-FFA7-4E9D-98CC-7D93462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55E26-3B12-4F82-92D4-AE2A0A977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62AAA-5159-47D3-98B7-2E805B196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5452" t="57270" r="58267" b="24364"/>
          <a:stretch/>
        </p:blipFill>
        <p:spPr>
          <a:xfrm>
            <a:off x="0" y="0"/>
            <a:ext cx="4392720" cy="6699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rcRect l="55375" t="64618" r="3172" b="15023"/>
          <a:stretch/>
        </p:blipFill>
        <p:spPr>
          <a:xfrm>
            <a:off x="4805280" y="158760"/>
            <a:ext cx="457200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rcRect l="5452" t="75638" r="58267" b="4087"/>
          <a:stretch/>
        </p:blipFill>
        <p:spPr>
          <a:xfrm>
            <a:off x="-158760" y="476280"/>
            <a:ext cx="4784760" cy="670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rcRect l="8236" t="18884" r="56696" b="61980"/>
          <a:stretch/>
        </p:blipFill>
        <p:spPr>
          <a:xfrm>
            <a:off x="4626000" y="274680"/>
            <a:ext cx="424512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57033" t="24004" r="5126" b="53712"/>
          <a:stretch/>
        </p:blipFill>
        <p:spPr>
          <a:xfrm>
            <a:off x="4937040" y="297000"/>
            <a:ext cx="4030920" cy="656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5452" t="39144" r="58267" b="42732"/>
          <a:stretch/>
        </p:blipFill>
        <p:spPr>
          <a:xfrm>
            <a:off x="457200" y="523800"/>
            <a:ext cx="42148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55375" t="46176" r="3172" b="35349"/>
          <a:stretch/>
        </p:blipFill>
        <p:spPr>
          <a:xfrm>
            <a:off x="3305160" y="274680"/>
            <a:ext cx="47372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Up – Top ½ 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WHAT YOU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e order of stages in the criminal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two stages could be revers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is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___________ stage may never occur if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ex. The arrest stage may never occur if there is not enough evidence gathered or there is not a suspec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OUP WORK PROJECT GRADE</a:t>
            </a:r>
            <a:br>
              <a:rPr sz="2500"/>
            </a:b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You must be here today and tomorrow to receive full project cred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368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TEP 1: Select a leader, reade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(s)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, writer, two presen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DER: Ensure everyone participates and doesn’t talk to any other gro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DER(s): Read loud enough for everyone to h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er: Everyone records rough draft notes on page 93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owever, ONE of you will hand in a final copy of your notes on the page provi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ers: Tomorrow you will present the information supporting each other and providing background stories to the no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8080" y="426600"/>
            <a:ext cx="89359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tep 2: Read &amp; Re-Read for Understa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d the section carefully focusing on the guiding ques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each other understand vocabulary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hat words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to know the exact meaning of to still understand the paragraph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pay attention to any court cases mentioned in your rea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any words in bold or ital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e what you’re reading today with what you learned last week or in other aspects of your life. Use your prior knowledg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n’t forget…you are all taking brief notes on page 9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 – Bottom ½ 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wo details/clarifying info you will share with your classmates tomorrow that are NOT written in your presentation no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INT: Think about how I provided other details, clarifications, or stories during today’s PowerPoint presen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your notes on ONE POWERPOINT SLIDE and share it with your group-mates and me on Google Docs. Must be shared by 10 PM to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US 20 – on Homework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2:43:32Z</dcterms:created>
  <dc:creator>Teacher</dc:creator>
  <dc:description/>
  <dc:language>en-US</dc:language>
  <cp:lastModifiedBy>Teacher</cp:lastModifiedBy>
  <cp:lastPrinted>2011-12-12T20:42:27Z</cp:lastPrinted>
  <dcterms:modified xsi:type="dcterms:W3CDTF">2011-12-13T03:06:47Z</dcterms:modified>
  <cp:revision>3</cp:revision>
  <dc:subject/>
  <dc:title>Slide 1</dc:title>
</cp:coreProperties>
</file>